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BD22-4409-4C02-9861-09FBA4CF39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CA5-3C83-4B56-AD8A-2A7028F4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D70-1BD3-49B4-8292-D9D7734A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888-84B3-4F76-B8D5-8229FF62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3C2-F99F-461F-9459-1D420F30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EAC8-9140-49EA-BF6B-4049BD69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4DBE-B321-45E5-BF17-2039EC08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1A4E-F587-423C-B2B1-15666F22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7EA8-46DE-4C04-A3DC-E428279D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35AE-A6C2-422B-8894-C3CD9DA6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30CA-F998-419F-AB2A-2BE23F1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B3DA-E084-46E9-AA3C-E1B92BC5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756-7560-44AA-A94C-4389E6E8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891E-85A0-4EF5-BD8A-0EA2E7F6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E37-D7F2-4FE7-B21A-0718F8A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385E-F6A6-452A-8AF5-E78D0308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68AE-361A-49E0-9893-48462B1E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BDE0-6432-42B6-8439-2EDC1949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FD4-712B-485B-81BE-B433C878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F6E-C4C0-43C3-B43F-55EC2ECD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AC3-BF2B-496B-913A-C8F516EC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241-E7F4-4A9D-8232-8051A251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6B7-7FE2-43A8-A6DB-6729792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E97-4A82-42C8-BEAA-E3CF7FC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61C-927C-46C5-A5A1-3022B6F6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4EEE-9B32-47A6-ABD1-143CC3FE5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FE26-BCBB-4545-98EE-D98BDC4E4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kitche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Times New Roman"/>
              </a:rPr>
              <a:t>Services, Training and Products for Embedded Systems and Software</a:t>
            </a:r>
            <a:endParaRPr b="0" i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680" y="373392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ystem and 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sensor and contro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feature reco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proces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5335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Embedded system and software develop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plug-ins for digital data acquisition, security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protocol analyzers and conve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 signal analysis an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graphical display of statist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imetry and spectrophot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Real-time sensor and control processing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software for multichannel sensor processing, algorithm execution, control and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-loop measurement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user interface for test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witching and subscriber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Legacy feature recovery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-effective redevelopment of legac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analysis and re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cewise replacement of hard-to-maintain code and dat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, Cobol and Basic translation to C and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Software process improve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M-based organizational assess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M and IEEE-compatible requirements dra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project planning and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management and quality as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subcontract planning and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less enrollment of management and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Project manage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 assessment for better development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project planning for predic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ing, monitoring, oversight and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in 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Available contractual arrangements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consultation with re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time assessments and train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stage, fixed-price 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assignments via ITS or Aero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ontact inform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9528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362320"/>
            <a:ext cx="70866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ail mai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ry E. Kit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38 Bristo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umbus, Ohio 43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phon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14-538-9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x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appoin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mail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kitchen@columbus.r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men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 Word, WordPerfect, Excel, Acces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ct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Point, Vi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: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hkitche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5T01:54:14Z</dcterms:created>
  <dc:creator>Harry Kitchen</dc:creator>
  <dc:description/>
  <dc:language>en-US</dc:language>
  <cp:lastModifiedBy>Harry Kitchen</cp:lastModifiedBy>
  <cp:lastPrinted>2001-09-12T04:47:55Z</cp:lastPrinted>
  <dcterms:modified xsi:type="dcterms:W3CDTF">2002-11-26T05:40:37Z</dcterms:modified>
  <cp:revision>141</cp:revision>
  <dc:subject/>
  <dc:title>Services and Training in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3768604</vt:r8>
  </property>
  <property fmtid="{D5CDD505-2E9C-101B-9397-08002B2CF9AE}" pid="3" name="_AuthorEmail">
    <vt:lpwstr>hkitchen@columbus.rr.com</vt:lpwstr>
  </property>
  <property fmtid="{D5CDD505-2E9C-101B-9397-08002B2CF9AE}" pid="4" name="_AuthorEmailDisplayName">
    <vt:lpwstr>Harry Kitchen</vt:lpwstr>
  </property>
  <property fmtid="{D5CDD505-2E9C-101B-9397-08002B2CF9AE}" pid="5" name="_EmailSubject">
    <vt:lpwstr>SAE Embedded Software Presentation Series - Harry Kitchen Slides</vt:lpwstr>
  </property>
</Properties>
</file>