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9FD9-BAFD-4FF9-86B0-2686028EAD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B32-6305-4E50-B9BE-48031C2F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141-AD93-4E39-9D3B-ED2A92B5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E802-F875-418C-8C70-8D4E15E9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EA7-6BB6-4457-91A5-BBE1E83F0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1B10-33FA-4C05-BAE9-F1635119B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250E-66F1-4E61-B761-A50D5878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4710-A5B4-4FA1-95B4-646EB4FB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2CBD-789A-493C-856B-EAD978EF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2C53-7FCD-440D-AD99-67DAAE31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6B81-53A7-491C-AA50-0409A244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20DB-AE25-4F22-97EE-08DDF595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845-DCAB-41E8-9994-0F4FE7B3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498-2284-4C3C-A062-E8CE7FBD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EC9DB-A22A-4327-97E0-2AED4A46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5BDE-B17C-4E06-B788-DFB15278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0F66-EEEB-402D-94E1-02D0DAC28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DED-8DB1-4784-84BD-0A210FCB0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12A1-ABF0-4AB0-914A-68715A3D3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E65D-1D11-40A3-8659-01CF919D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2BE3-E72D-4A6C-B536-906FC0D6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A63-C52D-44FF-983F-CAD345F5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DA0-DE20-448A-B747-76D653E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CA65-5165-4511-94BE-E2AB2934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92FE-5C7C-472A-B37F-EF877834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D9AE-85AD-4637-9B35-E8E89BE82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7FAF-E4D8-4BD2-862B-32B0EB254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kitchen.com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900"/>
                </a:solidFill>
                <a:latin typeface="Times New Roman"/>
              </a:rPr>
              <a:t>Services, Training and Products for Embedded Systems and Software</a:t>
            </a:r>
            <a:endParaRPr b="0" i="1" lang="en-US" sz="36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680" y="3733920"/>
            <a:ext cx="746784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 and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sensor and control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cy feature recove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process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ject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5335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Embedded system and software develop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plug-ins for digital data acquisition, security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protocol analyzers and conver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sor signal analysis and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-time graphical display of statistical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imetry and spectrophot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Real-time sensor and control processing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software for multichannel sensor processing, algorithm execution, control and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-loop measurement an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user interface for test appar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witching and subscriber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Legacy feature recovery 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27428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-effective redevelopment of legacy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re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ecewise replacement of hard-to-maintain code and data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, Cobol and Basic translation to C and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Software process improv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-based organizational assess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M and IEEE-compatible requirements dra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and trac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guration management and quality assu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 subcontract planning and 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inless enrollment of management and sta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Project management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ments assessment for better development 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project planning for predic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cking, monitoring, oversight and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in 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900"/>
                </a:solidFill>
                <a:latin typeface="Times New Roman"/>
              </a:rPr>
              <a:t>Available contractual arrangements</a:t>
            </a:r>
            <a:endParaRPr b="0" i="1" lang="en-US" sz="40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3047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consultation with re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-time assessments and training semin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stage, fixed-price software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-term assignments via ITS or Aero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029200" y="624852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Harry E. Kitchen, CSQ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ontact information</a:t>
            </a:r>
            <a:endParaRPr b="0" i="1" lang="en-US" sz="4400" spc="-1" strike="noStrike">
              <a:solidFill>
                <a:srgbClr val="ff99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495288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2362320"/>
            <a:ext cx="708660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nail mail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rry E. Kitc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538 Bristol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lumbus, Ohio 432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lephone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14-538-98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appoin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-mail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kitchen@columbus.rr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achments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S Word, WordPerfect, Excel, Access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ject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Point, Vis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b: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hkitche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5T01:54:14Z</dcterms:created>
  <dc:creator>Harry Kitchen</dc:creator>
  <dc:description/>
  <dc:language>en-US</dc:language>
  <cp:lastModifiedBy>Harry Kitchen</cp:lastModifiedBy>
  <cp:lastPrinted>2001-09-12T04:47:55Z</cp:lastPrinted>
  <dcterms:modified xsi:type="dcterms:W3CDTF">2002-11-26T05:40:37Z</dcterms:modified>
  <cp:revision>141</cp:revision>
  <dc:subject/>
  <dc:title>Services and Training in Software Engineer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3768604</vt:r8>
  </property>
  <property fmtid="{D5CDD505-2E9C-101B-9397-08002B2CF9AE}" pid="3" name="_AuthorEmail">
    <vt:lpwstr>hkitchen@columbus.rr.com</vt:lpwstr>
  </property>
  <property fmtid="{D5CDD505-2E9C-101B-9397-08002B2CF9AE}" pid="4" name="_AuthorEmailDisplayName">
    <vt:lpwstr>Harry Kitchen</vt:lpwstr>
  </property>
  <property fmtid="{D5CDD505-2E9C-101B-9397-08002B2CF9AE}" pid="5" name="_EmailSubject">
    <vt:lpwstr>SAE Embedded Software Presentation Series - Harry Kitchen Slides</vt:lpwstr>
  </property>
</Properties>
</file>