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7405-9B2E-426C-8ACE-7119A863B8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268-443F-4470-B1F5-8717B275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404-A9B3-4AC5-AFAB-F27724F2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D35-2E49-4740-A9A9-E8AD282C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630-42CF-4311-8B95-62101C34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F372-CD6E-4B67-B669-35BE9142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3CDF-2B53-427D-B614-CF5E2272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F393-B3DC-4DA3-A490-A635F70A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8719-E9FF-4EDA-B3E2-E350E74B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9A9F-1ADF-4492-8E55-F92A6604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1339-607D-4303-87B2-5DF83CFE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9B42-8B8F-47C1-994F-0353FB68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A0F-0826-4199-96E2-9702536A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1091-2A20-4D4F-9BA7-815C8178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0266-A391-4D6F-B030-8B21D650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80F9-8571-4B7C-A190-6EEED51E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FBB3-04E4-451A-8A9B-E94AAA82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FB7B-E189-4551-995A-F9FDE026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BC2-73E3-4C6B-81DA-8F976C15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A99-0D88-4E58-826C-EC3509A7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D8E-AD2F-45E5-9E2A-4B1BB8E7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E03-45E9-41F7-8AC8-9F57A433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039-13B5-42A1-ACBE-0A102F61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EF5-F624-40A4-B28A-59E20F45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C58-E181-48D1-BB9C-9F4B34DE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BD22-F2BE-424B-8ABF-50C4F9CF3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8DCC-E64F-4EBD-984C-EA6657216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kitchen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00"/>
                </a:solidFill>
                <a:latin typeface="Times New Roman"/>
              </a:rPr>
              <a:t>Services, Training and Products for Embedded Systems and Software</a:t>
            </a:r>
            <a:endParaRPr b="0" i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680" y="3733920"/>
            <a:ext cx="746784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dded system and softwar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time sensor and control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cy feature reco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process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5335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Embedded system and software development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 plug-ins for digital data acquisition, security 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protocol analyzers and conver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or signal analysis an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time graphical display of statist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imetry and spectrophot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Real-time sensor and control processing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software for multichannel sensor processing, algorithm execution, control and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-loop measurement 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user interface for test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switching and subscriber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Legacy feature recovery 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-effective redevelopment of legacy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analysis and re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ecewise replacement of hard-to-maintain code and data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, Cobol and Basic translation to C and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Software process improvement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M-based organizational assess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M and IEEE-compatible requirements dra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project planning and t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management and quality as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subcontract planning and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less enrollment of management and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Project management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 assessment for better development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project planning for predic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king, monitoring, oversight and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in 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Available contractual arrangements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consultation with re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time assessments and training semin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stage, fixed-price softwar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-term assignments via ITS or Aero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ontact informatio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49528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362320"/>
            <a:ext cx="708660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ail mai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ry E. Kit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38 Bristol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umbus, Ohio 432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ephone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14-538-98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x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appoin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-mail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kitchen@columbus.rr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achment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 Word, WordPerfect, Excel, Access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ject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Point, Vi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: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hkitche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5T01:54:14Z</dcterms:created>
  <dc:creator>Harry Kitchen</dc:creator>
  <dc:description/>
  <dc:language>en-US</dc:language>
  <cp:lastModifiedBy>Harry Kitchen</cp:lastModifiedBy>
  <cp:lastPrinted>2001-09-12T04:47:55Z</cp:lastPrinted>
  <dcterms:modified xsi:type="dcterms:W3CDTF">2002-11-26T05:40:37Z</dcterms:modified>
  <cp:revision>141</cp:revision>
  <dc:subject/>
  <dc:title>Services and Training in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3768604</vt:r8>
  </property>
  <property fmtid="{D5CDD505-2E9C-101B-9397-08002B2CF9AE}" pid="3" name="_AuthorEmail">
    <vt:lpwstr>hkitchen@columbus.rr.com</vt:lpwstr>
  </property>
  <property fmtid="{D5CDD505-2E9C-101B-9397-08002B2CF9AE}" pid="4" name="_AuthorEmailDisplayName">
    <vt:lpwstr>Harry Kitchen</vt:lpwstr>
  </property>
  <property fmtid="{D5CDD505-2E9C-101B-9397-08002B2CF9AE}" pid="5" name="_EmailSubject">
    <vt:lpwstr>SAE Embedded Software Presentation Series - Harry Kitchen Slides</vt:lpwstr>
  </property>
</Properties>
</file>