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82AF-0CBA-4C51-9D6E-1E8ACEAC5C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FF0-9C8A-471B-B621-B73A177A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AB7-A312-40CC-9185-E727303C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388-A12C-47B8-A9F0-5F520E3A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B33-30AC-4543-9715-70A56720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FBAF-BCE2-4C69-8406-D68C3645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1ADB-0448-4765-A87C-52786192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7D94-318D-4A00-B0CB-B357509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716E-4AA5-4ECB-AB31-7BF3B8BC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B6C6-9445-4758-966B-CCB0D4C9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C308-F32A-47B1-BC3B-B239714A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8145-B5E8-49A8-907F-971174AC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388-91A0-49CC-9035-5C880C4B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F659-96EA-4483-B5DB-50274E90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F1F0-1FD4-450B-9C30-619532D0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D7F1-0722-4D0D-A366-36281462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B471-21F9-4892-9117-A46D294C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F67E-E47A-4C4A-A574-3659746A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4C6-3677-4D27-90B4-EA2B2709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9B5-953A-4D90-9534-1D72DBF4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F67-E3DE-4C52-A1C1-EFB3CC0A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3A3-722B-4734-B96E-101BFEDD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9ED-EE12-440C-9415-37B90A98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BA1-684F-4C86-9E17-DCFE5D3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4E9-75F9-48EE-9B1F-0459FE19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EEF5-D058-49CF-B7F3-221700F32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FED1-20C2-4E87-9D4A-005252CB9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kitche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Times New Roman"/>
              </a:rPr>
              <a:t>Services, Training and Products for Embedded Systems and Software</a:t>
            </a:r>
            <a:endParaRPr b="0" i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680" y="373392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ystem and 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sensor and contro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feature reco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proces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5335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Embedded system and software develop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plug-ins for digital data acquisition, security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protocol analyzers and conve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 signal analysis an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graphical display of statist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imetry and spectrophot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Real-time sensor and control processing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software for multichannel sensor processing, algorithm execution, control and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-loop measurement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user interface for test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witching and subscriber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Legacy feature recovery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-effective redevelopment of legac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analysis and re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cewise replacement of hard-to-maintain code and dat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, Cobol and Basic translation to C and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Software process improve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M-based organizational assess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M and IEEE-compatible requirements dra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project planning and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management and quality as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subcontract planning and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less enrollment of management and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Project manage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 assessment for better development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project planning for predic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ing, monitoring, oversight and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in 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Available contractual arrangements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consultation with re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time assessments and train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stage, fixed-price 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assignments via ITS or Aero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ontact inform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9528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362320"/>
            <a:ext cx="70866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ail mai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ry E. Kit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38 Bristo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umbus, Ohio 43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phon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14-538-9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x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appoin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mail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kitchen@columbus.r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men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 Word, WordPerfect, Excel, Acces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ct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Point, Vi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: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hkitche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5T01:54:14Z</dcterms:created>
  <dc:creator>Harry Kitchen</dc:creator>
  <dc:description/>
  <dc:language>en-US</dc:language>
  <cp:lastModifiedBy>Harry Kitchen</cp:lastModifiedBy>
  <cp:lastPrinted>2001-09-12T04:47:55Z</cp:lastPrinted>
  <dcterms:modified xsi:type="dcterms:W3CDTF">2002-11-26T05:40:37Z</dcterms:modified>
  <cp:revision>141</cp:revision>
  <dc:subject/>
  <dc:title>Services and Training in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3768604</vt:r8>
  </property>
  <property fmtid="{D5CDD505-2E9C-101B-9397-08002B2CF9AE}" pid="3" name="_AuthorEmail">
    <vt:lpwstr>hkitchen@columbus.rr.com</vt:lpwstr>
  </property>
  <property fmtid="{D5CDD505-2E9C-101B-9397-08002B2CF9AE}" pid="4" name="_AuthorEmailDisplayName">
    <vt:lpwstr>Harry Kitchen</vt:lpwstr>
  </property>
  <property fmtid="{D5CDD505-2E9C-101B-9397-08002B2CF9AE}" pid="5" name="_EmailSubject">
    <vt:lpwstr>SAE Embedded Software Presentation Series - Harry Kitchen Slides</vt:lpwstr>
  </property>
</Properties>
</file>